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FB84-F16D-4A68-98D0-56B4EC35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52B6-F010-48E4-BCF8-45499FCA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B243-6E5A-47AE-8038-B6E85960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AF5E-5A73-4294-AFB1-CE0F102F8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3FFB-BB13-4297-B630-13980E7B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A647-7408-4F85-AE2B-51B0CD3A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3D8-C733-4707-A081-2C034826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16C7-8AFD-4639-9581-BFE9E4D0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0115-678B-44EC-8A83-A49EB857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122E-BE8F-4278-BF1B-DFF243B1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E92C-6F81-4D42-ADBA-E77D48EC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45A7-90F6-452B-8583-01BB384E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2EB3-622F-46E2-80C2-2FE00972B9A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-fips.physik.uni-kl.de/javaseminar/" TargetMode="External"/><Relationship Id="rId2" Type="http://schemas.openxmlformats.org/officeDocument/2006/relationships/hyperlink" Target="http://aleph.physik.uni-kl.de/~korsch/cphys.html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-fips.physik.uni-kl.de/java_user/vewinger/ZNS/Oberflaeche.html" TargetMode="External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fips.physik.uni-kl.de/javaseminar/kurs/" TargetMode="External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Bild2.gif" TargetMode="External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Javaseminar SS 1999</a:t>
            </a:r>
            <a:br>
              <a:rPr sz="4400"/>
            </a:b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Historische Entwickl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3623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4382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omputerseminar: Seit Jahren erfolgreicher Bestandteil in der Physikausbildung (Prof. Korsch, Prof. Jo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ts auf freiwilliger Basis für engagierte Stude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insatz unterschiedl. Programmiersprachen / Mathematikprogramme: Turbo Pascal (-&gt; </a:t>
            </a:r>
            <a:r>
              <a:rPr b="0" lang="de-DE" sz="3200" spc="-1" strike="noStrike" u="sng">
                <a:solidFill>
                  <a:srgbClr val="ff3300"/>
                </a:solidFill>
                <a:uFillTx/>
                <a:latin typeface="Times New Roman"/>
                <a:hlinkClick r:id="rId2"/>
              </a:rPr>
              <a:t>Chaos, Prof Jodl, Prof. Korsch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), Mathematica / Maple / Matlab,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28600"/>
            <a:ext cx="85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ysikalisches Kolloquium, Mo. 5.7.1999, Dr. Martin Menz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um Java? - Allgem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sbildung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berufsorienti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erbess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en mit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Java Kenntniss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önnen auch wieder als studentische /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issenschaftl. Hilfskräfte in Fachberei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ingesetzt wer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ion von wissenschaftlichen Programmen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(Applets) in multimedialen Dokum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m Internet (WW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um Java? - Anwend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rogramme und Dokumentation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  <a:hlinkClick r:id="rId1"/>
              </a:rPr>
              <a:t>(z.B.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verschmelzen zu einer Einh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mressourcen anderer Institute können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ndividu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u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rogrammpaket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sammlungen zusammengestellt werden (Siehe Fi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isierung /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eltweite Kooperation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um Java? - Strukt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848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lattformunabhäng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Objektorienti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Programmierung (d.h.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aten und Funktionen zusammengefaß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ispiel: Vekt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- Koordinaten des Vekto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- Vektoraddition, Drehoperatoren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Einheitliche graphischen Oberfläc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Java-internen Klass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lauf des Javaseminars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inführungskurs in die Javaprogrammierung (4 Termine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  <a:hlinkClick r:id="rId1"/>
              </a:rPr>
              <a:t>Kurs in WWW For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sowohl im Netz zum Nachlesen als auch in der Vorles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ion von Applet- und Entwicklungstools-Demonstration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ieser Zeit: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Einarbeiten  in d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hysikalische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heor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 Themas der Grup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lauf des Javaseminars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minarteil (9 Termine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nzahl der Teilnehmer: 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envorträge über Theorie und Programmierfortschri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kussion der Ergebnisse, gemeinsames Erarbeiten des gewünschten Endzi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reuung persönlich und via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  <a:hlinkClick r:id="rId1"/>
              </a:rPr>
              <a:t>News Group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(Offline Diskussionsfor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 folgen einige Beispie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 Ergebnisse von Stude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2T07:52:10Z</dcterms:created>
  <dc:creator>Fachbereich Physik, FiPS</dc:creator>
  <dc:description/>
  <dc:language>en-US</dc:language>
  <cp:lastModifiedBy>Fachbereich Physik</cp:lastModifiedBy>
  <dcterms:modified xsi:type="dcterms:W3CDTF">2000-01-05T08:14:10Z</dcterms:modified>
  <cp:revision>13</cp:revision>
  <dc:subject/>
  <dc:title>Javaseminar SS 1999 Historische Entwicklu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xchaos5.physik.uni-kl.de/menzel/</vt:lpwstr>
  </property>
  <property fmtid="{D5CDD505-2E9C-101B-9397-08002B2CF9AE}" pid="9" name="LinkColor">
    <vt:r8>16711782</vt:r8>
  </property>
  <property fmtid="{D5CDD505-2E9C-101B-9397-08002B2CF9AE}" pid="10" name="MailAddress">
    <vt:lpwstr>menzel@physik.uni-kl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Inetpub\wwwroot\menzel\talks\1999_Kolloquium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